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9F2-26F3-4AF5-A6FE-A7935665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DDC-37F3-4B8F-8890-5AE7333B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BF2-27DB-4CE3-A664-2838E37F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63F-4466-4DFE-8985-19A7ADCC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FD5B-FF73-47D5-9DEA-62A7A81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375-5223-4B71-8DB6-141998B4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AFE-47D7-4A79-887E-DC01D16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A3C-3180-459E-99AE-BD89A107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35CB-D824-4EA2-9D54-A523CD8A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A258-84ED-4ABC-BF60-D2C390C8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EBB-7433-4FDF-AEA9-F2272DD1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A6C-F28F-4A00-8AA6-190E6A7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7170-0092-444F-A6A0-7670985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20FF-2BF6-4EEE-B4B0-CA0C2A4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DE00-E1CC-4D6F-A1A4-889FAAF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4647-AD43-434B-9408-A3242F88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9430-135D-4673-B667-8F1DC48E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9F4-86E2-4064-97F7-CA0D4830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20E-6937-4FC7-A90C-B82FBC6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68C-C82C-4541-8678-53DD702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035-407C-415F-AFA6-7882271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E88-D4E5-4831-9BA4-2D17A342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8CE-49E3-4B20-961A-B12C609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79D-552B-43DE-AB8F-2FB81AD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F61-F7E3-4542-B116-BA3F6F2A8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2E38-76E9-49FA-B33E-A982C4B4E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ecreasing hazards from non-point source pesticide contamination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 ways to approach hazard reducti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 pesticides different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ate, delayed application, substit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 crops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rotation, planting dates, resistant varie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ff-site pesticide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ffers, Water management, Crop residu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dr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ing spray equipment (droplet siz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apply in windy condi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application toward target 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aerial applications or mist bl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wick applicators or other targeting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field conservation techniques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 movement of water, chemicals and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 sediment within the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urage infiltration within the f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idu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ming “across the slop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rming “on the contou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our strip cr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our buffer 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applying pesticide before a heavy rainfal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efficient irrigation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lea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run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pesticide application to coincide with irrig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gate judici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ing pesticide efficacy reduces overall use of pesticides, and off-target movement is less likely to occur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roved Pesticide Application BMPs for Groundwater Protection from Pestic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DSU Extension Service, North Dakota Stat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that decrease l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pestic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effectiv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rate pestic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to less of the field (banding, spot  treatm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tch to less ‘leachable’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using high leaching pesticide on high leaching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s that decrease leach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r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‘driver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pesticide application before st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 irrigation to prevent leaching (and run-of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fil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soil organic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 surface connected macrop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tch to less hazardous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pesti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 thres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effectiv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rate pestic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to less of the filed (banding, spot  trea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il incorpor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s that increase infil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iel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idu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ing soil organic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bottom of root zone - 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s that increase infiltration (continu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iel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ing soi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llage direction (contou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p cr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enting/disturbing soil cru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tain sub-surface drain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leaving fiel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edge of field)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ching pesticides at field 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 (filter) stri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ention  p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ucted wet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sed water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Mitigating non-point source pesticide contamin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ypically mitigation measur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pesticide application lbs/ac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less hazardous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pesticide from moving away from point of efficacy (in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pesticide from leaving field  (bottom of root zone - edge of fie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does not “recommend” any pesticide, rate, formulation, or ti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hanges in pesticide management must be done with the help of Extension and crop consult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Pest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only when economic threshold is re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pest resistant varie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ood sanitation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op rotation or delayed pla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lants healthy and vigo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west effective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o part of the 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treatments that rely mainly on residual activity for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pre-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l application to control spring w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ost-emergent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e directed spra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ower application rate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ducing pesticide application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mixtures of low rate pesticides instead of a single pesticide at a high r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 substit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maintenance and calibration of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tilize pesticides that are less environmentally hazardou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can help determ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he field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pesticid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pesticide haz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es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ke pesticide recommendations to produc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with Extension or other crop advisors to help them include environmental risk in their recommend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revent pesticide from moving away from point of efficacy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icides which move away from their target can no longer control the 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il Incorporation (decreases runof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less mobile pestic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v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16:59:29Z</dcterms:created>
  <dc:creator>Eric Hesketh</dc:creator>
  <dc:description/>
  <dc:language>en-US</dc:language>
  <cp:lastModifiedBy>Joseph Bagdon</cp:lastModifiedBy>
  <dcterms:modified xsi:type="dcterms:W3CDTF">2001-02-22T19:54:17Z</dcterms:modified>
  <cp:revision>18</cp:revision>
  <dc:subject/>
  <dc:title>Mitigation: Decreasing hazards from non-point pesticide contamination</dc:title>
</cp:coreProperties>
</file>